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413A-1B17-4465-B0CA-D94090EB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5C8-7C0C-45C9-B35A-A2362B36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FC3-AD22-45CE-8389-20963767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B60-9573-419B-8401-F9F0123F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637-3DE7-41D4-BCA3-A0B547C7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413-2BBA-4CEA-B2F2-199A5E76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700B-4D26-4834-82EF-FF3F62D4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290-6549-4F99-9272-4801EC23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4B62-7AE1-49B8-807D-519BAB1B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BB7-028E-44B2-926A-F0F813D1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49D-FD02-4B30-A472-55EF31FB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A9E-1A16-450C-ACDB-2975CFE4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F35F-48B9-4B69-88B6-C615ECD9B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722210dRDTugoGhX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38680" y="380880"/>
            <a:ext cx="3200400" cy="81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إلهي قد نقيتُ         اليومَ في الماءِ الطَ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اصطفاني الحبُّ فيكَ  مُرسلاً كلَّ الدُّ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5340044ekIzaANufR_ph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1320" y="304920"/>
            <a:ext cx="2895480" cy="10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د نذَرتُ أن أحبَّ الأكملَ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د نذرتُ عِشقَ فادينا الحبي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د نذرتُ أن أُضحّي جسَدي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ساكباً للدمّ في الكأسِ الرهيب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1722210dRDTugoGhX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38680" y="380880"/>
            <a:ext cx="3200400" cy="81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إلهي قد نقيتُ         اليومَ في الماءِ الطَ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اصطفاني الحبُّ فيكَ  مُرسلاً كلَّ الدُّ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548786bKuLjeoRng_ph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19920" y="0"/>
            <a:ext cx="2895480" cy="86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استمعني أيها الكونُ الخشوع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سماءُ إسمعيني واشهَد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ملاكَ اللهِ خُذِ القَسَمَ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حوَ عرشِ المُتعالِ الأبد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1722210dRDTugoGhX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638680" y="380880"/>
            <a:ext cx="3200400" cy="81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إلهي قد نقيتُ         اليومَ في الماءِ الطَ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اصطفاني الحبُّ فيكَ  مُرسلاً كلَّ الدُّ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9:56:26Z</dcterms:created>
  <dc:creator>SUZANNE.MD</dc:creator>
  <dc:description/>
  <dc:language>en-US</dc:language>
  <cp:lastModifiedBy>USER</cp:lastModifiedBy>
  <dcterms:modified xsi:type="dcterms:W3CDTF">2003-01-10T12:58:23Z</dcterms:modified>
  <cp:revision>2</cp:revision>
  <dc:subject/>
  <dc:title>PowerPoint Presentation</dc:title>
</cp:coreProperties>
</file>